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7931-89A2-4312-93CB-2CE236D09C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3236-6BC1-41E5-8B84-75EFC0F8D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F66-68CF-4FEF-9254-F933BFAE0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ED43-2E58-4DF9-B137-AE35A118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B33-1A7E-4F6A-A151-85C07846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E31AD-0144-4214-ADB5-FBF016BA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A6F34-3E37-4B50-A653-6E4399E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E05C6-88F0-4618-A897-1651364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62CEC-F97E-4791-92BF-0BF8C36F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A8C0A-6F80-463A-B9DC-A6957AF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4F9F5-DDCE-4586-BE58-EA5F71E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55B63-7604-4370-B261-A7435BE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F05A5-F1AA-4C00-88A4-3E9F8F78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1236E-0552-41E6-8FF9-9EB7851B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B06F7-7BC8-4B42-96CF-0B23ED4D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34C-7E0C-42B1-8283-1B0066BC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CEE2F-9DCD-4EA5-84EE-6501544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D391F-0A1A-475C-963B-91E015A1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6AC3D-8E7A-440C-A6ED-AC1B9C40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19D56-E6DA-467B-A33A-22CE880C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983A0-15E4-4D51-A50D-B64EEEC9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CE219-6D9E-47CD-8A8A-A7886C3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CEFA9-C928-4412-8DA8-AE3DD7E8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22586-6EB0-4CCE-B540-3328C3F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B4042-FD18-4B7E-93ED-B4430D77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2412D-C4DA-4E40-9AA3-64943C38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39A-DBC7-4B33-9ADB-F6F0ACDA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64D20-5C22-4446-9860-0BAA416D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FBD4C-D6EB-4856-92DF-A89F5510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A313A-399D-41DF-BF2C-FFA4F6A2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A24CD-EF88-491B-8D91-B6B109D4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6A503-EFD4-4D3A-B95D-044CD32E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425F7-1819-4015-B122-CE242DCB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CF033-6B33-4D74-85B9-1A8588C0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BACC0-C1DE-4D59-9100-7FBBE1C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A1BB-3866-4893-9619-27154A8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6B3F9-F3C8-4145-AA60-90585FF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3418-6588-4EC4-BDF0-27742FA9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F6371-2596-4D3A-973B-C087688B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F2ADC-BA4F-4B39-BB39-D30942FF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714C7-2E8E-424D-B621-C6CEBFAE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C228A-1821-448A-81BC-0E814335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F0135-8BCC-463C-967A-5EC8A1B5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90AE8-D378-44BB-8A4B-BCD62670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6EFF0-A2C7-431A-AD82-29A5B797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FB5F1-3A7B-40AB-9061-9EEDCABB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B8FF1-2891-49E8-838E-E7C2C145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409BF-2304-424F-A084-EA31CBC9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A530-E911-4070-84E3-3C735925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21C85-EF76-4DCE-8E95-F68D04EB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91D3A-C876-4B9E-B008-C3930DA7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8E0AB-909A-4A37-A105-D5DFE9C0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1AD63-A33C-4E08-BCFF-94C9B3C2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084E3-D282-44AA-954F-FFC63141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99F2-CE2C-4FDB-BCA3-5A9E9978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0E13-91E7-4379-8072-C52C6E51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CF0A-2BAA-464E-B81A-16626414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9D9F-F408-4A7E-960F-F04EA2AA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ACB8-F33D-4B07-8CCC-EF90330A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AE2-0A6C-4ABF-970C-03D08901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6DF2-3867-4765-BE75-53E3762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28C6-F773-4850-8F8F-9A5E513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7BB1-B866-4136-A0B5-8099019C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EB85-D0BA-489F-9B41-163EE85D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5279-C1E7-48A5-B5D5-F0CC57A5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FB5C-BDB6-4DDD-A0ED-3F5FBC41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B335-5F47-4273-A6C3-96385567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400D-BEE8-46A9-B2F7-A38B8EE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C162-39C2-49B3-8BC7-7141D3D8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7209-6D0B-4B97-9F8C-E6C166EF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AAB-1E5F-4936-8B14-7CCE7A21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7E6C-FA70-4C02-B0FE-6E58F740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179C-6DAA-40DC-B257-38FA8A87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B83D-4ABE-4F7B-8653-B613C6DC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D8AD-5EF9-467F-A659-985F6EE6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B858-4A3B-4131-8512-1D03D3D6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D6C81-1A05-41F1-81CE-29FD990A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0E68E-BAC2-421C-ADF2-F6907BE1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6A611-4E39-4127-A98A-A9E4E640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5647-6DE7-4258-B126-F9767095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3CDE-355B-49A3-8798-67745B8C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631-6E6C-4FE8-BC1A-8F47A0E7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38287-C983-4394-84AB-F4A8CECF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EDC0-A33C-4352-9F5F-3AF69EF9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6D97-DAFA-4AED-8C5D-A699AF8D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0D614-C00B-4BBE-9CD2-C4C6D11D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792B-FFFC-477B-BFB3-7806AFF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FC36-A29A-48CE-9D70-F2884EE9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1FC0B-55F5-4139-830F-337B6710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B9B4-999E-4ED5-B37F-E73B932C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3738-B74C-4D80-8414-674CA09E2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C8F91-48D0-42CB-B653-75881AB0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AA1-5ABE-4CF7-807F-E5D178BA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3D07E-E12A-421F-9498-01790AE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70FD4-5A9D-4840-9974-A060108A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EFA1-B6C9-4D75-9FEA-E9743AFC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10ECC-01A2-465F-A063-51CFFE91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E71BE-C3A4-4377-904E-14D789D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7C8B-4AAF-4591-B44F-8EF61EF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1CC65-47A4-4C24-8C32-364B8811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6F21-F9A6-41E8-9EF7-CB42AB66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D1449-0BEB-4140-A897-6152999E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5B4C5-153B-43C1-974B-464641C8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32C-A38F-4680-9B4F-45D1FF51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2B629-4AB0-4FDA-8618-A08EAA3B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79B1-22AD-4E38-950F-F792DD13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4602C-7FC4-4D59-9DA2-885297EE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0E4AB-0BB4-412F-B2E8-E47548C1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72498-0C9E-4D2F-8451-54C57B80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89D90-048B-4DAB-8AC2-C57CA16E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CF3D-1377-448D-A700-630C8CA7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E663-0B9D-4028-B2FD-DC3A0334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DDE9-0F9D-4A68-A366-3CDC894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A8C4-FD90-4C10-93DE-49DE2B4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BA7-990F-4288-BD5F-D2874602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8A83A-1F5A-44C1-B65B-9AD7CC15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EDB35-6730-4594-9A0A-31FA5298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B8D4-1AB4-4F96-844F-748DE90C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80D8C-EC97-41A0-9D9D-698266FD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7FA7-EDFC-4850-802A-002DB2C6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74C84-1A5C-4CCA-BD1C-0DF3AC50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FB953-6F0A-41DC-900E-14D6829F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88F02-14FD-4D8A-BFC8-8FCCBE6A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0D49-D36B-4C83-8007-B976201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99120-EC8B-4075-87C9-42A7B86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8CB-B1F3-4E34-9E8C-D95F6977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A7890-21D1-4A13-80A9-9BCD4FB0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CBD08-5564-46F8-B0A3-00B74B8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04BD-E3FA-4F8F-9412-012B8B9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437B7-0B63-4F1D-8025-21E928B5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A70C5-3D79-47A5-BAAE-016FA8AB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D1160-63D4-443C-A783-B8170FF3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BFBD0-87B1-4C96-8350-CE6221B3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C13F7-C90A-4C84-88A5-EA3B52DC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CAC0-F3CB-40D2-ACB6-01D18089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8885B-844E-4EAE-AECA-3C2C777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3DE6-66AD-44A7-BBD5-97B0B4CF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A5499-782F-4CF5-AC06-C410C3F1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BECE-A909-4592-9624-6752951A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0B9E1-27BD-4FAB-8027-4F4AFFFC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A9179-82F1-4B3C-9F33-6BFF75AF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9B962-120A-431B-AC7A-0CF6BD97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299E8-B658-4E2B-AE0E-BFC441C7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0335-2621-487A-8BD9-0432E488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2E6DD-D29F-4149-A97F-03478795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1D8B0-F201-46E2-9A12-134EEB50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A935C-F0D3-4C03-A40C-DB7DD0B2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7E1E-225C-41D5-9782-62970E494B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2CB4-3F5B-483D-8727-80515E7DD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6F80-234E-4AC1-BF26-92CF83540F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2068-54B6-42A6-96B0-712289F0B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1F0F-8CC3-4A0A-ACE4-EEC7B7F05A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528E-6A02-4855-BFBA-2C3E5A93D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1403-2759-42C6-A392-1717A8F33A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14B8-9704-4AA3-A92A-DCB8718ED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E5EE-3A52-4AB4-978F-34174F4E23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72D4-F9A3-4A0A-8DE3-0A873246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3209-538E-480B-A292-B4B079C9EE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6ED8-2CAE-4A22-ABD3-043BB2B46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2D4F-C106-4AAF-A433-1AA8A40E86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74BF-DE17-45ED-B204-E1AA0A687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E662-61FF-489C-BB20-6D0626BBCA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A16E-E0CE-4983-9C8A-02C44AFD6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5F04-A9E9-4B96-B073-0A317BD155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4C88-7651-48BF-A3A4-586BAB85D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6A19-F42E-49F4-BB20-D66C3426F5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75D4-4D2F-4DA9-8090-C1C40162A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B4AC-58CE-431C-9962-80D9F407FE3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CA37-8062-4D32-A226-05D830B21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7CF8-CAFC-4D43-851F-C7B48B1496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2BB9-35AF-4281-84B9-80EAFB3D6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"/><Relationship Id="rId6" Type="http://schemas.openxmlformats.org/officeDocument/2006/relationships/slide" Target="slide9.xml"/><Relationship Id="rId7" Type="http://schemas.openxmlformats.org/officeDocument/2006/relationships/slide" Target=""/><Relationship Id="rId8" Type="http://schemas.openxmlformats.org/officeDocument/2006/relationships/slide" Target="slide11.xml"/><Relationship Id="rId9" Type="http://schemas.openxmlformats.org/officeDocument/2006/relationships/slide" Target=""/><Relationship Id="rId10" Type="http://schemas.openxmlformats.org/officeDocument/2006/relationships/slide" Target="slide13.xml"/><Relationship Id="rId11" Type="http://schemas.openxmlformats.org/officeDocument/2006/relationships/slide" Target=""/><Relationship Id="rId12" Type="http://schemas.openxmlformats.org/officeDocument/2006/relationships/slide" Target="slide15.xml"/><Relationship Id="rId13" Type="http://schemas.openxmlformats.org/officeDocument/2006/relationships/slide" Target=""/><Relationship Id="rId14" Type="http://schemas.openxmlformats.org/officeDocument/2006/relationships/slide" Target="slide17.xml"/><Relationship Id="rId15" Type="http://schemas.openxmlformats.org/officeDocument/2006/relationships/slide" Target=""/><Relationship Id="rId16" Type="http://schemas.openxmlformats.org/officeDocument/2006/relationships/slide" Target="slide19.xml"/><Relationship Id="rId17" Type="http://schemas.openxmlformats.org/officeDocument/2006/relationships/slide" Target=""/><Relationship Id="rId18" Type="http://schemas.openxmlformats.org/officeDocument/2006/relationships/slide" Target="slide21.xml"/><Relationship Id="rId19" Type="http://schemas.openxmlformats.org/officeDocument/2006/relationships/slide" Target=""/><Relationship Id="rId20" Type="http://schemas.openxmlformats.org/officeDocument/2006/relationships/slide" Target="slide23.xml"/><Relationship Id="rId21" Type="http://schemas.openxmlformats.org/officeDocument/2006/relationships/slide" Target=""/><Relationship Id="rId22" Type="http://schemas.openxmlformats.org/officeDocument/2006/relationships/slide" Target="slide25.xml"/><Relationship Id="rId23" Type="http://schemas.openxmlformats.org/officeDocument/2006/relationships/slide" Target=""/><Relationship Id="rId24" Type="http://schemas.openxmlformats.org/officeDocument/2006/relationships/slide" Target="slide27.xml"/><Relationship Id="rId25" Type="http://schemas.openxmlformats.org/officeDocument/2006/relationships/slide" Target=""/><Relationship Id="rId26" Type="http://schemas.openxmlformats.org/officeDocument/2006/relationships/slide" Target="slide29.xml"/><Relationship Id="rId27" Type="http://schemas.openxmlformats.org/officeDocument/2006/relationships/slide" Target=""/><Relationship Id="rId28" Type="http://schemas.openxmlformats.org/officeDocument/2006/relationships/slide" Target="slide31.xml"/><Relationship Id="rId29" Type="http://schemas.openxmlformats.org/officeDocument/2006/relationships/slide" Target=""/><Relationship Id="rId30" Type="http://schemas.openxmlformats.org/officeDocument/2006/relationships/slide" Target="slide33.xml"/><Relationship Id="rId31" Type="http://schemas.openxmlformats.org/officeDocument/2006/relationships/slide" Target=""/><Relationship Id="rId32" Type="http://schemas.openxmlformats.org/officeDocument/2006/relationships/slide" Target="slide35.xml"/><Relationship Id="rId33" Type="http://schemas.openxmlformats.org/officeDocument/2006/relationships/slide" Target=""/><Relationship Id="rId34" Type="http://schemas.openxmlformats.org/officeDocument/2006/relationships/slide" Target="slide37.xml"/><Relationship Id="rId35" Type="http://schemas.openxmlformats.org/officeDocument/2006/relationships/slide" Target=""/><Relationship Id="rId36" Type="http://schemas.openxmlformats.org/officeDocument/2006/relationships/slide" Target="slide39.xml"/><Relationship Id="rId37" Type="http://schemas.openxmlformats.org/officeDocument/2006/relationships/slide" Target=""/><Relationship Id="rId38" Type="http://schemas.openxmlformats.org/officeDocument/2006/relationships/slide" Target="slide41.xml"/><Relationship Id="rId39" Type="http://schemas.openxmlformats.org/officeDocument/2006/relationships/slide" Target=""/><Relationship Id="rId40" Type="http://schemas.openxmlformats.org/officeDocument/2006/relationships/slide" Target="slide43.xml"/><Relationship Id="rId41" Type="http://schemas.openxmlformats.org/officeDocument/2006/relationships/slide" Target=""/><Relationship Id="rId42" Type="http://schemas.openxmlformats.org/officeDocument/2006/relationships/slide" Target="slide45.xml"/><Relationship Id="rId43" Type="http://schemas.openxmlformats.org/officeDocument/2006/relationships/slide" Target=""/><Relationship Id="rId44" Type="http://schemas.openxmlformats.org/officeDocument/2006/relationships/slide" Target="slide47.xml"/><Relationship Id="rId45" Type="http://schemas.openxmlformats.org/officeDocument/2006/relationships/slide" Target=""/><Relationship Id="rId46" Type="http://schemas.openxmlformats.org/officeDocument/2006/relationships/slide" Target="slide49.xml"/><Relationship Id="rId47" Type="http://schemas.openxmlformats.org/officeDocument/2006/relationships/slide" Target=""/><Relationship Id="rId48" Type="http://schemas.openxmlformats.org/officeDocument/2006/relationships/slide" Target="slide51.xml"/><Relationship Id="rId49" Type="http://schemas.openxmlformats.org/officeDocument/2006/relationships/slide" Target=""/><Relationship Id="rId50" Type="http://schemas.openxmlformats.org/officeDocument/2006/relationships/slideLayout" Target="../slideLayouts/slideLayout85.xml"/><Relationship Id="rId5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3708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666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Know your ma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4"/>
          <p:cNvSpPr/>
          <p:nvPr/>
        </p:nvSpPr>
        <p:spPr>
          <a:xfrm rot="21000000">
            <a:off x="-681840" y="2168280"/>
            <a:ext cx="638496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00" spc="-1" strike="noStrike">
                <a:solidFill>
                  <a:srgbClr val="ff9900"/>
                </a:solidFill>
                <a:latin typeface="Freestyle Script"/>
              </a:rPr>
              <a:t>Math Mania</a:t>
            </a:r>
            <a:endParaRPr b="0" lang="en-US" sz="8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6" descr=""/>
          <p:cNvPicPr/>
          <p:nvPr/>
        </p:nvPicPr>
        <p:blipFill>
          <a:blip r:embed="rId2"/>
          <a:stretch/>
        </p:blipFill>
        <p:spPr>
          <a:xfrm>
            <a:off x="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A7A-3B47-4778-A6A6-E67E2A2F2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2619000" y="3050640"/>
            <a:ext cx="381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(2,0)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32A0-03AB-48CA-8970-B5D3E6FB9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762120" y="205740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orm of a function after ‘completing the square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D0DD-FF54-4490-A216-F593FE8B4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641960" y="2872800"/>
            <a:ext cx="58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vertex form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3127-745D-4486-8B5C-03AD8073C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838080" y="19051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What translation has occurred to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F(x) = 2 sin (x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D7E-76FC-4C3A-B342-F42BBF5F9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1185840" y="2260800"/>
            <a:ext cx="6384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‘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stretch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D4C2-F51A-441E-B375-101DC53B8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translation of the following equ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F(x) = sin (x-6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5"/>
          <p:cNvSpPr/>
          <p:nvPr/>
        </p:nvSpPr>
        <p:spPr>
          <a:xfrm>
            <a:off x="5013360" y="9144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662-4404-4622-B405-4255FC680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863640" y="2291760"/>
            <a:ext cx="7800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horizont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ranslation 60 degrees right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F220-27AA-419B-B5A9-232CF6A69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914400" y="21337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translation to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ffffff"/>
                </a:solidFill>
                <a:latin typeface="Times New Roman"/>
              </a:rPr>
              <a:t>F(x) = sin (x+50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0D0C-4B3C-4F31-B831-4F4A4A5DD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1752480" y="1917360"/>
            <a:ext cx="563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horizontal translation 50 degrees left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9531-5864-401E-8911-274222F7B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762120" y="1219320"/>
            <a:ext cx="7315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type of translation that has occurred to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(x) = -3 sin (x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8417-E438-47F5-83F7-E8587B4A5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3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0" action="ppaction://hlinksldjump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2" action="ppaction://hlinksldjump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4" action="ppaction://hlinksldjump"/>
              </a:rPr>
              <a:t>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6" action="ppaction://hlinksldjump"/>
              </a:rPr>
              <a:t>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120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00"/>
                </a:solidFill>
                <a:uFillTx/>
                <a:latin typeface="Garamond"/>
                <a:hlinkClick r:id="rId48" action="ppaction://hlinksldjump"/>
              </a:rPr>
              <a:t>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40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a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ve This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am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your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D555-44DE-49A0-91DC-16DD9EE68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1523880" y="266040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“stretched” and “reflected”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ACC5-A304-4F44-B4B5-812E05CC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990720" y="18288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Max and M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F(x) = 2sin(x-90) +4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AC91-0ABC-42D2-BF23-11E4107B7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943360" y="2291760"/>
            <a:ext cx="273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6 and 2’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5555-D4E7-4837-AE44-E3EF6DA66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990720" y="205740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root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(x-5)(x+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9DC0-103C-48F2-B3FD-C6B371C1B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945440" y="2650680"/>
            <a:ext cx="527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5 &amp; -3’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DDB5-E613-4F61-9B95-E833D154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914400" y="1905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roots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3(x + 2)(x - 6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3E54-5BFA-4443-A1F1-D98AD50AC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5"/>
          <p:cNvSpPr/>
          <p:nvPr/>
        </p:nvSpPr>
        <p:spPr>
          <a:xfrm>
            <a:off x="1636920" y="301716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- 2 and 6’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2DB2-F07C-46A9-855F-65AF1695A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914400" y="9144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umber of zeros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 (t) = 9t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2 -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1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3046-B0B1-4653-A5EE-72D20DAAA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2678040" y="3017520"/>
            <a:ext cx="380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2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F0D9-35B2-484E-8A08-EA67A7531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7621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roo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(2x - 3) ( 3x + 5)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81F9-E2A6-430E-ACED-CC874C30B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762120" y="12193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‘form’ of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x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+ 4x +8 = 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186F-1554-4928-8408-CFE1F9F84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1549080" y="3017160"/>
            <a:ext cx="607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3/2 &amp; -5/3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CBE3-CFAD-4167-92E3-5D41D32D5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762120" y="12193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root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(2x – 4)(3x + 9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96A7-28B0-40A5-8E15-685F05EB4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2021400" y="3017520"/>
            <a:ext cx="512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are ‘2 &amp; -3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51DE-38BE-43C7-AFC0-86EED774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990720" y="198108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the Primary Trig Rat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AE56-1A8C-4AFB-8951-167D4069D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1267200" y="3020400"/>
            <a:ext cx="747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SOH CAH TOA?’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6324-EC20-4031-92DF-45D17EA06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990720" y="106668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angle looking down from the horizontal is called 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9ABB-BD77-4312-AA27-7408CEE41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47880" y="2590200"/>
            <a:ext cx="900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the ‘angle of depression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33F5-6C44-4A09-927C-B5592159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762120" y="12193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aw used when you have a contained angle and two sides of a non-right triangl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 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2BD7-8627-4334-B5E6-6DE156B4F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784080" y="3017520"/>
            <a:ext cx="744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The Cosine Law’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DF0-A26A-430A-9EFE-001BFA530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wo angles in a triangle are 58 and 42.  What is the final ang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5833-8CFF-4B50-9010-3603C3D6B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5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1306440" y="146628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Standard For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6DFC-DC78-40E9-995B-F495461FF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2761920" y="2593440"/>
            <a:ext cx="366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80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8720-41B1-4FCD-8783-4FBA0553E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hypotoneuse of a right angle triangle with sides 3 and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3980-FE8A-405E-9328-7FF1EC950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2825640" y="3018600"/>
            <a:ext cx="35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5’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FEE2-89C6-408F-BE6A-E53F32F63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762120" y="12193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year’s Grinch in the Carleton Place Christmas Para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785-8E0C-4E64-90CB-B68E66C78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5"/>
          <p:cNvSpPr/>
          <p:nvPr/>
        </p:nvSpPr>
        <p:spPr>
          <a:xfrm>
            <a:off x="1270800" y="3018600"/>
            <a:ext cx="66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o is the ‘Josh Jones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ABD2-FD8D-4039-AD93-74710ABB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irst Date back after Christmas Bre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4BF7-5249-4DB9-BF8E-696C04BFE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864720" y="3018600"/>
            <a:ext cx="742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en is ‘Monday Jan 9th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73F6-F64C-42BD-86CE-D74D4CA07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r Cordick’s favorite NFL t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29FB-8BCA-4DA4-B46F-154433B16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1023480" y="2653920"/>
            <a:ext cx="712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o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‘ 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The Indianapolis Colts 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AF18-D516-4141-990D-0626049C0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762120" y="121932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ame of the teacher who teaches “Construction Te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9D58-8BAC-425E-8910-98F2F4F5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838080" y="838080"/>
            <a:ext cx="73152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‘form’ of the following fun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3(x-6)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+ 2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6178-A97F-4A8D-9520-848AA68EA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1830240" y="3015720"/>
            <a:ext cx="549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o is ‘Mr. Howe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BFE7-80D5-4235-A2DC-0DAE53088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762120" y="12193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irst name of Mr. Gedd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46DB-5413-4D2F-B06B-45B388F21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2406600" y="2748600"/>
            <a:ext cx="468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o is ‘Robert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9A7D-946E-45B4-8DB0-D7EA7C6BE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838520" y="2782440"/>
            <a:ext cx="571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vertex for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F16C-7166-447E-BBC1-3B43D7CC4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762120" y="1219320"/>
            <a:ext cx="7315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3733920" y="220968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4251240" y="27846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371600" y="2209680"/>
            <a:ext cx="643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other term for the ‘roots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r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0E4A-E4C1-4700-83E9-86BFD99FF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4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2129040" y="2653920"/>
            <a:ext cx="44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What is ‘zeros’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759A-912F-49A6-A2DA-77FBC9759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838080" y="213372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vertex coordinates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(x) = 3 (x-2)</a:t>
            </a: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$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Marek Doroshenko</dc:creator>
  <dc:description/>
  <dc:language>en-US</dc:language>
  <cp:lastModifiedBy>ICT</cp:lastModifiedBy>
  <dcterms:modified xsi:type="dcterms:W3CDTF">2011-12-02T14:20:28Z</dcterms:modified>
  <cp:revision>101</cp:revision>
  <dc:subject/>
  <dc:title>Jeopardy Template</dc:title>
</cp:coreProperties>
</file>